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5C4F-AE9A-4920-99DB-242F12872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A622-1CFA-49F3-85AD-9A2C65F3C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2C6D-34C4-40B3-A39C-372567552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85F4-2E50-45DD-AA73-2BC62B839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0BBB-C87C-4A8F-9ACE-D89395616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6B1E-2DBC-4721-A8D5-17F4B6924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B8E4-47A8-4FEA-BA4D-317CDCAA9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127B-2BBF-45B7-9607-1BF43499C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7CBC-DD06-4928-83FA-02C5A3F97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560A-E5C4-4D45-BE3C-F9822F04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8AE5-05E3-4401-94C2-CA6BD3DB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F39B-F48F-4BC4-8475-8220BFBE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9CAAD-1EBC-400A-9858-9E8B75196E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QL is 4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Gen, Context-Fr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556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ontext sensitivity of the language determines the complexity of the program needed to compile/interpret the langu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gives rise to additional keywords whose purpose is to remove context sensitiv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: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DECLAR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var in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: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E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var = valu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5638680" y="3048120"/>
            <a:ext cx="3175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of Computer Langua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eneration (Machine language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ctual 1’s and 0’s of the CPU instruction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ypical program: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1000101001001010111010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00101011101011101011101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eneration (Assembly language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ne-by-Line mnemonics for machine language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ov a, &amp;addr1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a, #12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line of code = one line machine co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of Computer Langua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eneration (compiled, interpret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er level of abstra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line of code = one or more lines machine cod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ndx = 0; ndx &lt; limit; ndx++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st[ndx] = (price[ndx] * qty[ndx]) * tax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 C, C++, C#, Java, PHP, Javascrip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of Computer Langua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and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en languages are Procedura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nes of code are run in the sequence in which they are writt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ow control statements shift direction (e.g. IF, WHILE, FOR, GOTO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en languages are Declarativ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ing rules to be follow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ules are interpreted by a runtime engi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base Langua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rimary language of databases i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uctured Query language (SQL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QL is a 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en langua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databases include a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en language for use in stored procedures and trigg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Hier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languages are also divided into a hierarch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xampl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+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this enough information to know what this symbols means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s: it’s an addition operator and it conveys enough information all by itself to know what to d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+ sign is “Context Free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Hier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       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Us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this enough information to know what this symbols mea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: In some languages it means I’m using a specific namespace – unless it means I’m accessing sub-members of a structured variable. But in SQL it creates a link between primary and foreign keys in tab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“Using” operator is “Context-Sensitive.”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omsky Hier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ype 3: Regular Gramma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individual character contains enough information to know what to do with it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 Regular Express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ype 2: Context-Fre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phrase contains enough information to know what to do with it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 Many programming languages, such as SQL, assembly languages, and C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omsky Hier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ype 1: Context-Sensitive grammar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eaning of a symbol or phrase depends on the context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 operator and function overloading in OO languages such as C++ and C#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ype 0: Recursively Enumerable (unrestricted grammar). Each phrase or symbol may have to be recursively analyzed to determine its context-sensitive meaning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 a legal contra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9T14:34:20Z</dcterms:created>
  <dc:creator>john.wyatt</dc:creator>
  <dc:description/>
  <dc:language>en-US</dc:language>
  <cp:lastModifiedBy>Wyatt, John</cp:lastModifiedBy>
  <dcterms:modified xsi:type="dcterms:W3CDTF">2014-07-28T16:49:39Z</dcterms:modified>
  <cp:revision>14</cp:revision>
  <dc:subject/>
  <dc:title>Heuristics</dc:title>
</cp:coreProperties>
</file>